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92A-3FA0-47E8-AAF0-C203FE9D39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DB78-DADF-4101-8EA5-4577BB1083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9718-4E90-4064-84E5-83A5D54B3D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5732-3748-4C92-A43F-77F9BA54A7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ADAA-D29E-4A3B-8679-1F51F710D5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883D-70F1-4232-A8FE-7BFD1BE005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85AB-9EB9-4D75-B025-453A14CE92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A9C4-4F37-49DD-B4A1-BEB8CD3FC8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73F0-E1E7-4B68-8ED6-13980F688E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0581-2AA8-4AB7-B1E6-ED7D1D75585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3BEB-0244-4387-BF46-2173C8C598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3A3-61C6-4F45-9B0B-C663B0A181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8038-5E12-4992-A3E1-2B584E1B6E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086D-0697-4D90-899D-0E3630CE6A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2FC3-D71E-43A7-B04F-94330A5ECE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903D-A4D3-476D-BA98-A747F08543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605D-AAE4-4EDD-A593-9D7AC93998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436D-8D22-43A5-921C-E5DD3420D4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0B3A-F428-419C-B335-EB2785C5CA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0E42-7C5D-4A3B-ABA8-09BF320611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2900-CD51-4A30-A5C9-42995D13A4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2FF6-2636-4F6A-BEE5-E72BB756B4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2B2-C922-46BD-AE3F-8262145D76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924C-E034-474F-A219-5BD8225E64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8191-8267-4814-BB0C-F0B8FBD379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804D-7A2D-4BE2-9190-6780B33288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AB18-0590-48A8-83EC-17C2196E83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47B0-D300-4529-9DD2-9A25B14B77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1B33-3C93-4393-9F1B-886017B2AF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3018-6B4D-4D2E-AAF2-1E87B02574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DBF4-0527-419F-8844-2A53B66F1D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C590-5FC2-4A9A-8277-3E6B383CFB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E929-9D5D-417A-B156-FC55DA1092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73DE-61EB-4003-8F84-B2722E4C4A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3453-B295-42AD-8E3B-95F5D0FAE2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17C2-DF6B-425E-B208-6BFC4E1D20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FDF2-EE77-44EF-A1E0-3670E6C4E8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0548-12E0-4BFD-B1D1-DED870D394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54F-6FBF-4530-8664-A9E5CF2C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782-409C-4D07-B4E9-4CE880F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1EA-206A-4A81-9338-A17370F0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718-53D5-43C9-8A2B-CC6A5C62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0420-F50B-47F9-8630-4BC965B5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D3B3-DEE1-4CED-9443-89CF5E94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10FD-890E-49F6-9FCC-16B345C1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6143-3182-414E-9F5E-A37F3FEB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82A4-F916-4D56-80B5-EE8E043F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C599-9928-4815-AD01-2F1AD79B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28C1-5888-45A7-BAE8-D4595495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8CE-3252-44F1-85CA-F15BA1C1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3CFD-5981-4F63-8722-1054E47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B44F-C3E8-47F6-B8E9-D226B82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5A58-F398-4709-904B-A3414B33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11D3-BB99-46B9-9484-A1740E69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6F8B-D8CA-434C-89FC-95B19474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F0032-D7DA-448C-A7B9-44663C41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DA95F-AC2B-4F08-9B52-0B78A38A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EDD66-1451-4A3B-9357-2060AA6F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48C6C-079E-46A7-B527-34EF3844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A1E95-DF2E-4815-94C3-A31A843A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E5A-7769-4918-900A-E72F2825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F24E8-AE0F-4A35-BF29-1EAA5486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CD55A-4192-4131-9F1D-1CA9149F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80A3D-9659-4473-8676-A9DFFCE2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270ED-4766-4C66-B74F-BCF564B4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4AEA5-4470-4CD7-8969-0A34AF28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B3AE6-1B60-4AAA-8586-D8DBF95A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23961-B4E6-4411-91B6-DCF6EED4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73E6-67AA-4204-8B3E-85E96466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5237-0F34-4B97-9593-F3F81F8A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51EF-C631-4243-852C-CBB887D3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B25-818C-447C-A560-14230796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3B4A-C6FE-4F68-A864-583FAB92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D996B-AF32-455D-B585-86FF541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CC60-EC10-4D4E-89DD-EFAAAFD4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9C2D2-1806-4E3F-93BC-BC6F06D9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5EE8-8C9C-41A3-B033-56CF597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8174-5F0B-438D-B253-E535133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83FF-05C6-436A-B896-A9AA997F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B41F-2C30-4E49-9A55-0DDE9FC8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2459-035F-4E1D-B51B-44894348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C7D-3ACB-4DA0-8F91-6325ED4B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249-B6C4-42E9-A29D-BDB4774D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5F3-33F8-4C9B-9FE2-739ACD3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FEA-7EED-49F9-B1D3-2A825A7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11E-72A1-4313-B236-C46DA595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B827-F546-4DDD-A93C-CC0B42200CE3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B292-5562-4A0F-8C1E-C957FBA47DAA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ACA-19AD-438B-98C8-B1E737E82D50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CEB-01D3-4D37-B7C6-CDB2EA8A3359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en.wikipedia.org/wiki/Image:PoleMountTransformer02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기술시스템과 표준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9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7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, 6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402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의 정의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시스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구성요소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네트워크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상호연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시스템의 구성요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인공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변압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송전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계량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적 인공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회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은행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의 조직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법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연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연자원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람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엔지니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관리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정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노동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왜 시스템으로 분석하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 구성요소는 시스템의 목표를 위해 존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구성요소의 변화는 시스템의 목표에 비추어 이해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과 주변환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과 주변환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변환경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 관리자 통제 밖의 요인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과 환경의 경계는 유동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과 통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은 불확실성보다 통제 선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성장하는 시스템은 주변환경을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 내부로 포섭하여 통제 시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시스템의 진화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진화의 패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혁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이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성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고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멘텀의 획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키워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단계마다 핵심 인물 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발명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기업가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관리자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기업가 </a:t>
            </a:r>
            <a:r>
              <a:rPr b="0" lang="ko-KR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재정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기업가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단계마다 풀어야할 핵심적 문제 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기술적 문제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조직적 문제 </a:t>
            </a:r>
            <a:r>
              <a:rPr b="0" lang="ko-KR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재정적 문제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발명과 개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종류의 인공물의 창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주회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백열등은 모두 인간의 발명품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수적 발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파격적 발명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개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품이 현실에서 살아남을 수 있도록 많은 기술적 문제들을 해결해가는 과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명품에 물리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제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치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적 특성 부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발 단계의 문제는 발명에 의해 형성될 시스템의 목표와 시스템의 구성요소들 사이의 체계적 관계에 크게 의존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업가의 중요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혁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혁신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개발된 기술을 바탕으로 생산과 판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서비스가 이루어지는 실제 사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시스템의 형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 통제권의 확대 및 주변환경의 축소 시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관련회사들의 소유 및 통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원료와 상품을 담당하는 조직까지 흡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핵심 인물의 변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명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업가의 중요성 하락하고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관리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업가의 중요성 점점 커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시스템의 주된 역돌출부의 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스템 구축가로서의 에디슨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뿐만 아니라 전기조명 시스템을 통째로 개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2" descr="Early Edison Lamp"/>
          <p:cNvPicPr/>
          <p:nvPr/>
        </p:nvPicPr>
        <p:blipFill>
          <a:blip r:embed="rId1"/>
          <a:stretch/>
        </p:blipFill>
        <p:spPr>
          <a:xfrm>
            <a:off x="900000" y="2276640"/>
            <a:ext cx="647640" cy="1358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System diagram Generators in series, lamps in parallel, and three-wire distribution (Patent no 274290, 20 March 1882)"/>
          <p:cNvPicPr/>
          <p:nvPr/>
        </p:nvPicPr>
        <p:blipFill>
          <a:blip r:embed="rId2"/>
          <a:stretch/>
        </p:blipFill>
        <p:spPr>
          <a:xfrm>
            <a:off x="5651640" y="2997360"/>
            <a:ext cx="1990440" cy="3168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Jumbo Generator"/>
          <p:cNvPicPr/>
          <p:nvPr/>
        </p:nvPicPr>
        <p:blipFill>
          <a:blip r:embed="rId3"/>
          <a:stretch/>
        </p:blipFill>
        <p:spPr>
          <a:xfrm>
            <a:off x="1692360" y="2924280"/>
            <a:ext cx="3557520" cy="3241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1999080" y="62373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백열등 수천 개를 켤 수 있는 점보 발전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6050880" y="6237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병렬 배선 시스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스템적 사고의 필요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백열등은 혼자서 빛을 내지 못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백열등 조명을 위한 최적화된 시스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나의 요소가 변경되면 다른 요소도 변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백열등 조명에 알맞은 특별한 구성요소가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뒤쳐진 구성요소에 개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혁신 역량 집중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존 조명시스템과의 경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제성 및 성능 비교는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크등 또는 가스등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백열등이 아니라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크등 시스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스등 시스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백열등 시스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274680" y="1413000"/>
            <a:ext cx="8901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195640" y="750960"/>
            <a:ext cx="41767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81914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어떤 특징을 포착한 개념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사회의 어떤 특징을 포착한 개념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시스템은 현대의 기술에만 적용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대의 기술일수록 더욱 시스템화되었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Picture 2" descr="Pearl Street station around 1883"/>
          <p:cNvPicPr/>
          <p:nvPr/>
        </p:nvPicPr>
        <p:blipFill>
          <a:blip r:embed="rId1"/>
          <a:stretch/>
        </p:blipFill>
        <p:spPr>
          <a:xfrm>
            <a:off x="1258920" y="1197000"/>
            <a:ext cx="3935520" cy="26607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943560" y="6922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첫 번째 발전소인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arl Street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전소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뉴욕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88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69231"/>
          <p:cNvPicPr/>
          <p:nvPr/>
        </p:nvPicPr>
        <p:blipFill>
          <a:blip r:embed="rId2"/>
          <a:stretch/>
        </p:blipFill>
        <p:spPr>
          <a:xfrm>
            <a:off x="5435640" y="692280"/>
            <a:ext cx="3017880" cy="309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221351-1f1"/>
          <p:cNvPicPr/>
          <p:nvPr/>
        </p:nvPicPr>
        <p:blipFill>
          <a:blip r:embed="rId3"/>
          <a:stretch/>
        </p:blipFill>
        <p:spPr>
          <a:xfrm>
            <a:off x="468360" y="4076640"/>
            <a:ext cx="4701960" cy="24703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5580000" y="4149720"/>
            <a:ext cx="302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디슨의 전기조명 시스템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시 변화가에 최적화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 &amp; 200V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직류 발전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많은 백열등 병렬연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에디슨 전기조명시스템의 구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발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배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소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계량 등의 하위시스템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대용량 직류 발전기들을 거느린 중앙발전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병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배전 시스템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백열등과 소켓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스위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계량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술적 시스템을 관리할 조직적 시스템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에디슨 전등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재정 지원 및 발명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특허 관리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뉴욕 에디슨 전기 조명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중앙발전소 설비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에디슨 기계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발전기 생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에디슨 전기 튜브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송전 케이블 생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에디슨 전구 회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백열등 생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에디슨의 시장 개척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틈새시장에서 시작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나중엔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가스회사와 정면으로 맞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2" descr="Edison wiz 1879"/>
          <p:cNvPicPr/>
          <p:nvPr/>
        </p:nvPicPr>
        <p:blipFill>
          <a:blip r:embed="rId1"/>
          <a:stretch/>
        </p:blipFill>
        <p:spPr>
          <a:xfrm>
            <a:off x="5364000" y="1341360"/>
            <a:ext cx="2694240" cy="4292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5523840" y="58053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Edison as Wizar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이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 지역에서의 혁신 성공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른 지역으로 확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[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이전이 꼭 혁신 이후에 일어날 필요는 없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]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이전은 상이한 환경에 대한 적응 동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리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치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문화적 차이 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상이한 기술 스타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때로는 우연적인 역사적 경험이 영향을 미치기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에디슨 시스템의 이전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1920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4" descr="Electricity Supply in Great Cities"/>
          <p:cNvPicPr/>
          <p:nvPr/>
        </p:nvPicPr>
        <p:blipFill>
          <a:blip r:embed="rId1"/>
          <a:srcRect l="0" t="18649" r="0" b="8013"/>
          <a:stretch/>
        </p:blipFill>
        <p:spPr>
          <a:xfrm>
            <a:off x="468360" y="2205000"/>
            <a:ext cx="6323040" cy="42483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4"/>
          <p:cNvSpPr/>
          <p:nvPr/>
        </p:nvSpPr>
        <p:spPr>
          <a:xfrm>
            <a:off x="2700360" y="40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런던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파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베를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시카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7275960" y="2637000"/>
            <a:ext cx="16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왜 런던엔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50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개의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발전소가 있는 반면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베를린엔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개의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발전소만 있을까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4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성장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경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시스템 성장의 원인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규모의 경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효과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단점도 있음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다양한 부하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높은 부하율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경제적 혼합의 추구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역돌출부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시스템의 성장 과정에서 뒤쳐진 구성요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엔지니어들은 역돌출부가 나타난 장소에 집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엔지니어는 역돌출부를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그것을 풀면 역돌출부를 제거할 수 있는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) “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결정적 문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들의 집합으로 정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이에 대한 보수적 해결책은 기존 시스템 성장에 기여</a:t>
            </a:r>
            <a:br>
              <a:rPr sz="2400"/>
            </a:b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파격적 해결책은 새로운 시스템 형성 </a:t>
            </a:r>
            <a:r>
              <a:rPr b="0" lang="en-US" sz="24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시스템간 경쟁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“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류 전쟁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직류시스템의 역돌출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송전 거리의 한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수적 해결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선 배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충전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파격적 해결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교류 발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고압 송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새로운 교류 시스템의 출범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웨스팅하우스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직류 시스템 위협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에디슨과의 신경전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8" name="Picture 8" descr="System diagram Generators in series, lamps in parallel, and three-wire distribution (Patent no 274290, 20 March 1882)"/>
          <p:cNvPicPr/>
          <p:nvPr/>
        </p:nvPicPr>
        <p:blipFill>
          <a:blip r:embed="rId1"/>
          <a:stretch/>
        </p:blipFill>
        <p:spPr>
          <a:xfrm>
            <a:off x="611280" y="836640"/>
            <a:ext cx="3454200" cy="5499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Three-phase pole-mounted step-down transformer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3860640"/>
            <a:ext cx="2381040" cy="2314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trasf_o_ganz"/>
          <p:cNvPicPr/>
          <p:nvPr/>
        </p:nvPicPr>
        <p:blipFill>
          <a:blip r:embed="rId4"/>
          <a:stretch/>
        </p:blipFill>
        <p:spPr>
          <a:xfrm>
            <a:off x="4427640" y="907920"/>
            <a:ext cx="2257200" cy="26942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6"/>
          <p:cNvSpPr/>
          <p:nvPr/>
        </p:nvSpPr>
        <p:spPr>
          <a:xfrm>
            <a:off x="1038960" y="6488280"/>
            <a:ext cx="31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에디슨의 다선 배선 시스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83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에 설치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6900480" y="2565360"/>
            <a:ext cx="12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Ganz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변압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7110360" y="4869000"/>
            <a:ext cx="9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배전용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강압 변압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에디슨의 교류 비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4" descr="AC v DC"/>
          <p:cNvPicPr/>
          <p:nvPr/>
        </p:nvPicPr>
        <p:blipFill>
          <a:blip r:embed="rId1"/>
          <a:stretch/>
        </p:blipFill>
        <p:spPr>
          <a:xfrm>
            <a:off x="468360" y="2349360"/>
            <a:ext cx="3878280" cy="302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kemchar"/>
          <p:cNvPicPr/>
          <p:nvPr/>
        </p:nvPicPr>
        <p:blipFill>
          <a:blip r:embed="rId2"/>
          <a:stretch/>
        </p:blipFill>
        <p:spPr>
          <a:xfrm>
            <a:off x="4500720" y="2421000"/>
            <a:ext cx="3925800" cy="26766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6"/>
          <p:cNvSpPr/>
          <p:nvPr/>
        </p:nvSpPr>
        <p:spPr>
          <a:xfrm>
            <a:off x="4346640" y="515772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Kemmler Westinghoused!” (1890. 8. 6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1009800" y="544500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에디슨 연구소의 실험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3423960" y="609300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“</a:t>
            </a:r>
            <a:r>
              <a:rPr b="1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교류전류는 살인 전류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!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교류 시스템의 성장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교류시스템의 초기역돌출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실용적 모터의 부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해결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상 교류 발전기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터 개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테슬라 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직류 시스템과의 경쟁에서 기술적 우위 획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3" name="Picture 4" descr="3-phase transmission system (Haselwander)"/>
          <p:cNvPicPr/>
          <p:nvPr/>
        </p:nvPicPr>
        <p:blipFill>
          <a:blip r:embed="rId1"/>
          <a:stretch/>
        </p:blipFill>
        <p:spPr>
          <a:xfrm>
            <a:off x="1116000" y="3573360"/>
            <a:ext cx="6808680" cy="25923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2071440" y="6093000"/>
            <a:ext cx="48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다상 교류 발전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변압기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고압송전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변압기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Georgia"/>
                <a:ea typeface="맑은 고딕"/>
              </a:rPr>
              <a:t>다상 교류 모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산업사회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산업사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사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나의 공동체에서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확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공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사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배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확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운송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공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http://www.mbakery.co.kr/backup/200511/a5.jpg"/>
          <p:cNvPicPr/>
          <p:nvPr/>
        </p:nvPicPr>
        <p:blipFill>
          <a:blip r:embed="rId1"/>
          <a:stretch/>
        </p:blipFill>
        <p:spPr>
          <a:xfrm>
            <a:off x="5148360" y="2637000"/>
            <a:ext cx="325260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교류 시스템의 승리와 갈등 해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존 직류 시스템의 모멘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본집약적 시스템의 성격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해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불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자들이 이미 구입한 직류 상품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어떻게 최대한 평화적으로 해결할 수 있을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커플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coupling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합병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merging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교류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직류간 컨버터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시스템간의 화해 호환 기술</a:t>
            </a:r>
            <a:br>
              <a:rPr sz="2400"/>
            </a:b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교류로 고압 송전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최종소비자는 직류로 전화해 사용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합병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에디슨 회사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+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톰슨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휴스턴 회사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GE</a:t>
            </a:r>
            <a:br>
              <a:rPr sz="2400"/>
            </a:b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GE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와 웨스팅하우스 간의 특허교환 협약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9" name="Picture 2" descr="Rotary converter DC end"/>
          <p:cNvPicPr/>
          <p:nvPr/>
        </p:nvPicPr>
        <p:blipFill>
          <a:blip r:embed="rId1"/>
          <a:stretch/>
        </p:blipFill>
        <p:spPr>
          <a:xfrm>
            <a:off x="1476360" y="1628640"/>
            <a:ext cx="5238720" cy="41436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2657520" y="5950080"/>
            <a:ext cx="31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화해의 기술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초기 로터리 컨버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교류 시스템의 확장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2" name="Picture 4" descr="naiagara power"/>
          <p:cNvPicPr/>
          <p:nvPr/>
        </p:nvPicPr>
        <p:blipFill>
          <a:blip r:embed="rId1"/>
          <a:stretch/>
        </p:blipFill>
        <p:spPr>
          <a:xfrm>
            <a:off x="539640" y="227664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s13"/>
          <p:cNvPicPr/>
          <p:nvPr/>
        </p:nvPicPr>
        <p:blipFill>
          <a:blip r:embed="rId2"/>
          <a:stretch/>
        </p:blipFill>
        <p:spPr>
          <a:xfrm>
            <a:off x="5651640" y="2276640"/>
            <a:ext cx="2754000" cy="36734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1698480" y="61657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나이아가라 수력발전소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93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518440" y="616572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나이아가라에서 뻗어나온 송전선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1895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5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계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스템의 공고화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재정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업가의 중요성 높아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불확실성 제거 위한 노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변 환경도 시스템의 일부로 포섭 시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수합병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재정 및 조직 관리 위한 지주회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연관 기술들을 둘러싼 각종 표준 정립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의 유지를 둘러싼 이해관계 집단 함께 성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교육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4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제 공과대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기공학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기공학학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산업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전제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기설비 산업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변화에 저항하는 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멘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획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외관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자율적 기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보편 동력 공급 시스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0" name="Picture 7" descr="universal3"/>
          <p:cNvPicPr/>
          <p:nvPr/>
        </p:nvPicPr>
        <p:blipFill>
          <a:blip r:embed="rId1"/>
          <a:stretch/>
        </p:blipFill>
        <p:spPr>
          <a:xfrm>
            <a:off x="539640" y="1700280"/>
            <a:ext cx="7128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최적화된 시스템의 함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델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포드 공장의 실패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단일 모델 생산에 최적화된 시스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자의 취향 변화를 따라가기엔 너무 경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다 유연한 시스템을 갖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M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에 추격당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스템 독립적인 모듈에 대한 요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최적화 일정 부분 포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차의 종류에 상관없이 사용가능한 부품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운영체제에 상관없이 사용가능한 프로그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여러 프로그램에 쓰일 수 있는 코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표준 전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표준화를 둘러싼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보통 공적이익에 도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러나 공적이익≠사적이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막대한 교체비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내가 아닌 남이 교체하길 원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Feedback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작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선점 효과 꽤 중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표준화의 사례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디슨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lo” 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벨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hoy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컴퓨터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Qwerty”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철로게이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북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피트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8.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남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피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 접근의 장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성공 또는 실패 요인에 대한 재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가가 실제로 한 일에 대한 재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디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구텐베르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포드는 시스템 구축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과 사회의 공진화 이해 가능케 해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각은 기술시스템의 구성요소로서 연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자율성을 가지는 것처럼 보이는 이유 해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네트워크의 확장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http://engineeringsociety.files.wordpress.com/2009/11/railroad_spread.jpg"/>
          <p:cNvPicPr/>
          <p:nvPr/>
        </p:nvPicPr>
        <p:blipFill>
          <a:blip r:embed="rId1"/>
          <a:stretch/>
        </p:blipFill>
        <p:spPr>
          <a:xfrm>
            <a:off x="395280" y="2276640"/>
            <a:ext cx="3467160" cy="3952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://voteview.com/images/freight00.gif"/>
          <p:cNvPicPr/>
          <p:nvPr/>
        </p:nvPicPr>
        <p:blipFill>
          <a:blip r:embed="rId2"/>
          <a:stretch/>
        </p:blipFill>
        <p:spPr>
          <a:xfrm>
            <a:off x="3995640" y="2708280"/>
            <a:ext cx="4791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·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철도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·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석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·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화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·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기 시스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통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운송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동력원 네트워크 형성의 귀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람들 사이의 상호의존성 증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람들의 기술에 대한 의존성 증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시스템 간의 상호 의존성 증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존성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나의 변화는 다른 것의 변화도 동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나의 문제는 다른 것의 문제도 동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시스템의 발전 양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물리적 시스템의 통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표준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조직적 통합 동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통합은 기술시스템으로 얻을 수 있는 이익 극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시스템 간의 상호의존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http://thumb1.shutterstock.com.edgesuite.net/display_pic_with_logo/261859/261859,1234462091,1/stock-photo-telegraph-poles-and-railway-line-in-winter-24867061.jpg"/>
          <p:cNvPicPr/>
          <p:nvPr/>
        </p:nvPicPr>
        <p:blipFill>
          <a:blip r:embed="rId1"/>
          <a:stretch/>
        </p:blipFill>
        <p:spPr>
          <a:xfrm>
            <a:off x="611280" y="2397240"/>
            <a:ext cx="612144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현대사회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=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거대한 기술시스템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제조업의 산업화는 농업의 산업화 동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농업의 산업화는 제조업 산업화의 전제이자 귀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러한 결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스템적 사고에 기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산물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에 의한 변화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주식 시장과 투자 은행은 철도의 산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의 통합과 표준화도 철도의 산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교류 모터가 생산되자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산업체에서 증기기관을 모터로 대체하기 시작했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는 공장의 설계와 입지까지 변화시켰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의 필요와 인간의 합리적 선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토머스 휴즈의 기술시스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4" descr="Hughes"/>
          <p:cNvPicPr/>
          <p:nvPr/>
        </p:nvPicPr>
        <p:blipFill>
          <a:blip r:embed="rId1"/>
          <a:stretch/>
        </p:blipFill>
        <p:spPr>
          <a:xfrm>
            <a:off x="539640" y="2276640"/>
            <a:ext cx="2822760" cy="417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ThomasHughes%20p"/>
          <p:cNvPicPr/>
          <p:nvPr/>
        </p:nvPicPr>
        <p:blipFill>
          <a:blip r:embed="rId2"/>
          <a:stretch/>
        </p:blipFill>
        <p:spPr>
          <a:xfrm>
            <a:off x="3635280" y="2276640"/>
            <a:ext cx="338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3:53:25Z</dcterms:created>
  <dc:creator>zolaist</dc:creator>
  <dc:description/>
  <dc:language>en-US</dc:language>
  <cp:lastModifiedBy>zolaist</cp:lastModifiedBy>
  <dcterms:modified xsi:type="dcterms:W3CDTF">2010-09-30T06:00:57Z</dcterms:modified>
  <cp:revision>66</cp:revision>
  <dc:subject/>
  <dc:title>기술시스템과 표준</dc:title>
</cp:coreProperties>
</file>